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2D2-4E67-4441-82C7-8F77BCEF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7F4-4CF5-4E53-8E94-F8948A11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B61-1CF2-4DB5-AAA6-81436BCD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ABF-66DD-47DA-A46A-68874B10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16DC-8A93-4C28-9B3F-08B69441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3D9F-6A76-425C-A4D2-5CDA2E7E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156B-D66B-43B6-B54B-1A21BD70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F015-8E02-4BA1-BCBF-D43CF016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9327-C334-4116-B51F-EC61746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5D32-BB77-4351-888D-42AED26D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D194-C98B-4599-AE0B-EC2B6844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15D-8C56-4553-90C3-C50A3627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4945-DF24-4B15-A167-34C0A77A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3D45-5D11-432D-A701-B964DA0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CDEE-E285-499A-A94F-D0D0934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8E11-EA3E-4CDC-A2CB-07E03830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19B5-B5A9-4E85-AE6B-0473ED97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EE8-E2B5-4BD7-8CB4-3861ED57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60A-1567-4325-8759-43728BA6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D68-0809-4983-83E6-355251A3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0B3-40C8-4F54-89FB-B6C50098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76F-A511-464B-9B8A-DA0EA29E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C5A-5FDA-4403-907F-0C831E3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AF9-53BA-4D1A-AD21-E5FE4E71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D1A9-D957-42F8-B0D1-63A2CEFE51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9CA2-3608-4275-A72F-7F7A7DB191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Денежная реформа 1839 – 1843 годов 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под руководством министра финансов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Е.Ф. Канкрин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предотвратить постоянное колебание курса соотношения различных видов денег, обращавшихся в России (серебряных монет и ассигна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В 1840-1843 г. депозитной кассой выпущены билеты получившие хождение наравне с серебряной моне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0" t="0" r="22313" b="11665"/>
          <a:stretch/>
        </p:blipFill>
        <p:spPr>
          <a:xfrm>
            <a:off x="1116000" y="1773360"/>
            <a:ext cx="3600360" cy="198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rcRect l="0" t="0" r="23374" b="0"/>
          <a:stretch/>
        </p:blipFill>
        <p:spPr>
          <a:xfrm>
            <a:off x="971640" y="3933720"/>
            <a:ext cx="4033800" cy="2211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3:10Z</dcterms:modified>
  <cp:revision>34</cp:revision>
  <dc:subject/>
  <dc:title>Денежные реформы России</dc:title>
</cp:coreProperties>
</file>